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9F3-DB85-431D-B0E5-DE53D39D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A44-D7A9-4DC3-A016-1060332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6FC-742F-480D-B1D4-016E8538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956-C487-4A52-9A19-6CB18ED8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27F-DD46-4D7E-8EC7-7F1800AF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D9E-5408-4A34-9E19-8A09D235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7B0-DBB1-4C04-8C8A-0E8A1662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370-59F9-442B-9BD7-747D780D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EFB-E432-4ADA-B8E4-287B2BB3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1A9-E7DD-4786-B399-D580F4A8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356-6731-4739-91AA-C052F9E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C93-5B1D-4DA6-B8AB-D6B0867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8A8-7BDB-42D1-B87B-376A04259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 FR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1828800"/>
            <a:ext cx="19047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33520" y="3657600"/>
            <a:ext cx="1904760" cy="182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57600" y="1828800"/>
            <a:ext cx="19051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657600" y="3657600"/>
            <a:ext cx="1905120" cy="182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705720" y="1828800"/>
            <a:ext cx="19047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705720" y="3657600"/>
            <a:ext cx="1904760" cy="182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2590920" y="36576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5715000" y="36576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122076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06668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2207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3657600" y="2819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442116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426708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44211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36576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6705720" y="2438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6705720" y="3048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67057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67057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746928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731520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746928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668680" y="5486400"/>
            <a:ext cx="6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5867280" y="5486400"/>
            <a:ext cx="6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38:58Z</dcterms:created>
  <dc:creator>Chelle Daniels</dc:creator>
  <dc:description/>
  <dc:language>en-US</dc:language>
  <cp:lastModifiedBy>Chelle Daniels</cp:lastModifiedBy>
  <dcterms:modified xsi:type="dcterms:W3CDTF">2012-04-16T13:46:27Z</dcterms:modified>
  <cp:revision>2</cp:revision>
  <dc:subject/>
  <dc:title>Slide 1</dc:title>
</cp:coreProperties>
</file>